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BD9-8594-402A-86F1-82E9D8C4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EEA-4A3E-4EA3-902D-1FC6072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326-F554-49BE-97BE-6DA52681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C8A-ED57-408F-9E5F-F702DCB1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2EA-AC1C-4598-9941-2FC3AEC6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04D-08BC-4CFA-95CA-C1AEEB8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330-F836-4EFD-A582-FD5401E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0CC-73DD-4BA1-80F2-4AF06B9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9CF-CAE6-4FA2-8426-55FA0926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46A-FFBB-4760-BDC6-DAEBFB2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C29-CB67-4BFA-9D5E-0CD66D1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8CA-9724-441E-AA7A-DA51EF6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FAC1-740A-47B4-94FD-7AF12F52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tests on the air-sea exchange parameterization using the operational HWR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Kwon (E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Cd/Ch options in name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           There are five possible options for cd/ch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_opt  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_opt  =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371600" y="3429000"/>
            <a:ext cx="2438280" cy="1295280"/>
          </a:xfrm>
          <a:custGeom>
            <a:avLst/>
            <a:gdLst/>
            <a:ahLst/>
            <a:rect l="l" t="t" r="r" b="b"/>
            <a:pathLst>
              <a:path w="1536" h="816">
                <a:moveTo>
                  <a:pt x="0" y="816"/>
                </a:moveTo>
                <a:cubicBezTo>
                  <a:pt x="328" y="716"/>
                  <a:pt x="656" y="616"/>
                  <a:pt x="912" y="480"/>
                </a:cubicBezTo>
                <a:cubicBezTo>
                  <a:pt x="1168" y="344"/>
                  <a:pt x="1432" y="88"/>
                  <a:pt x="153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12372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_OPT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342900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429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Cd and Ch are inter-related each other in subroutine MFLUX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6765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05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The variables related to Cd/Ch should be changed with consistent manner to the modified Cd/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562720"/>
            <a:ext cx="693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ux, tauy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and so on should be changed sub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5181840" cy="360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572000" cy="371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533520" y="3321000"/>
            <a:ext cx="4648320" cy="35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2674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3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9600" y="0"/>
            <a:ext cx="4424400" cy="34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260880"/>
            <a:ext cx="4653000" cy="3597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495680" y="3263760"/>
            <a:ext cx="4648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03:32Z</dcterms:created>
  <dc:creator>ykwon</dc:creator>
  <dc:description/>
  <dc:language>en-US</dc:language>
  <cp:lastModifiedBy>ykwon</cp:lastModifiedBy>
  <dcterms:modified xsi:type="dcterms:W3CDTF">2009-10-14T17:17:08Z</dcterms:modified>
  <cp:revision>6</cp:revision>
  <dc:subject/>
  <dc:title>Sensitivity tests on the air-sea exchange parameterization using the operational HWRF </dc:title>
</cp:coreProperties>
</file>